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FCB1-2A0C-4768-B468-58D2E8E32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dsholder til slide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4223-2443-4D58-9B90-7DF4D054D671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51E-0DCD-4347-A382-2605E077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29A-BD99-4E27-B0DC-1D61F7D3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1B5-FF3C-431E-A190-0138C235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FD8-51CA-4950-9B8B-62BEEA97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CBAB-191C-4639-AA95-0EA68B82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7AD2-FB7D-494B-ADB3-0863CC0B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9507-A307-42AF-ACE2-DDF4C4A8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003C-9360-45EC-B1E0-2A1DB869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C75D-3D22-49AD-8DAD-9EDB1C58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8080" y="82872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EA83-0C2B-49A3-AF6D-EEF83918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F990-5305-4645-987F-C16F4D1B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D32-ACB7-4FE3-9506-006B9120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4D5E-6DEB-4B90-BA88-36436E33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DAF3-273F-4246-9135-F82699EB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3A8C-2D92-4E25-BD33-DD325914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827D-9FF0-4ABD-A9FA-B40CC560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13EA-195D-4910-B417-8BB6DCBE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14FC-7ED1-4913-91B6-C38D1AA5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CE61E-3142-4784-AC21-FDE13124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087A2-7BF5-4D84-9FE2-D72F502D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81FBE-BA73-415A-9AE2-EF1E69C6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D347E-20F2-4FA9-99F6-D2D1EA81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1DA-A955-467B-B4B0-F6D901D6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838080" y="82872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6D407-7ACE-44F0-A86E-14B2F56F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34E6-08EE-4888-84F2-BD9F68BE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ED5B9-4563-4994-A53E-6723FB4D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B9E2C-C24B-4626-A5A5-6B35F93D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4891F-4EBA-4D07-B8D3-5CEBEA9A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00A7-5A40-4E19-ABF8-9E86EC90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BC0B-1D69-42A0-9CA0-34B5BAF6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D0F-2F45-4E12-AB0D-D61C06FB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84D-1B0E-4C92-8A00-9CD74B1B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8080" y="82872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3B6-7C04-4791-8362-5D8469E8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B18-D69E-4191-AA4B-7F7B592D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45B-4B94-4CF4-98FB-0DD6920F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51C-CB24-4CD5-A427-46F941F1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ktangel 10"/>
          <p:cNvSpPr/>
          <p:nvPr/>
        </p:nvSpPr>
        <p:spPr>
          <a:xfrm>
            <a:off x="0" y="12600"/>
            <a:ext cx="12192120" cy="636840"/>
          </a:xfrm>
          <a:prstGeom prst="rect">
            <a:avLst/>
          </a:prstGeom>
          <a:solidFill>
            <a:srgbClr val="e2f0d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D2FA-5663-4A50-B569-05ECA24EE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ktangel 6"/>
          <p:cNvSpPr/>
          <p:nvPr/>
        </p:nvSpPr>
        <p:spPr>
          <a:xfrm>
            <a:off x="885960" y="187200"/>
            <a:ext cx="29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2060"/>
                </a:solidFill>
                <a:latin typeface="Calibri"/>
              </a:rPr>
              <a:t>Bjergprædiken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Lige forbindelse 7"/>
          <p:cNvSpPr/>
          <p:nvPr/>
        </p:nvSpPr>
        <p:spPr>
          <a:xfrm>
            <a:off x="-7920" y="633240"/>
            <a:ext cx="12192120" cy="0"/>
          </a:xfrm>
          <a:prstGeom prst="line">
            <a:avLst/>
          </a:prstGeom>
          <a:ln w="3816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Rektangel 8"/>
          <p:cNvSpPr/>
          <p:nvPr/>
        </p:nvSpPr>
        <p:spPr>
          <a:xfrm>
            <a:off x="0" y="6721560"/>
            <a:ext cx="12192120" cy="195120"/>
          </a:xfrm>
          <a:prstGeom prst="rect">
            <a:avLst/>
          </a:prstGeom>
          <a:solidFill>
            <a:srgbClr val="e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Rektangel 9"/>
          <p:cNvSpPr/>
          <p:nvPr/>
        </p:nvSpPr>
        <p:spPr>
          <a:xfrm>
            <a:off x="8447040" y="233280"/>
            <a:ext cx="290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2060"/>
                </a:solidFill>
                <a:latin typeface="Calibri"/>
              </a:rPr>
              <a:t>Morten Vartdal  |  FKF  |  20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ktangel 10"/>
          <p:cNvSpPr/>
          <p:nvPr/>
        </p:nvSpPr>
        <p:spPr>
          <a:xfrm>
            <a:off x="0" y="12600"/>
            <a:ext cx="12192120" cy="636840"/>
          </a:xfrm>
          <a:prstGeom prst="rect">
            <a:avLst/>
          </a:prstGeom>
          <a:solidFill>
            <a:srgbClr val="e2f0d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ktangel 6"/>
          <p:cNvSpPr/>
          <p:nvPr/>
        </p:nvSpPr>
        <p:spPr>
          <a:xfrm>
            <a:off x="885960" y="187200"/>
            <a:ext cx="29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2060"/>
                </a:solidFill>
                <a:latin typeface="Calibri"/>
              </a:rPr>
              <a:t>Bjergprædiken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ge forbindelse 7"/>
          <p:cNvSpPr/>
          <p:nvPr/>
        </p:nvSpPr>
        <p:spPr>
          <a:xfrm>
            <a:off x="-7920" y="633240"/>
            <a:ext cx="12192120" cy="0"/>
          </a:xfrm>
          <a:prstGeom prst="line">
            <a:avLst/>
          </a:prstGeom>
          <a:ln w="3816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ktangel 8"/>
          <p:cNvSpPr/>
          <p:nvPr/>
        </p:nvSpPr>
        <p:spPr>
          <a:xfrm>
            <a:off x="0" y="6721560"/>
            <a:ext cx="12192120" cy="195120"/>
          </a:xfrm>
          <a:prstGeom prst="rect">
            <a:avLst/>
          </a:prstGeom>
          <a:solidFill>
            <a:srgbClr val="e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ktangel 9"/>
          <p:cNvSpPr/>
          <p:nvPr/>
        </p:nvSpPr>
        <p:spPr>
          <a:xfrm>
            <a:off x="8447040" y="233280"/>
            <a:ext cx="290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2060"/>
                </a:solidFill>
                <a:latin typeface="Calibri"/>
              </a:rPr>
              <a:t>Morten Vartdal  |  FKF  |  20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ktangel 11"/>
          <p:cNvSpPr/>
          <p:nvPr/>
        </p:nvSpPr>
        <p:spPr>
          <a:xfrm>
            <a:off x="9815400" y="652320"/>
            <a:ext cx="1578240" cy="71460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ktangel 12"/>
          <p:cNvSpPr/>
          <p:nvPr/>
        </p:nvSpPr>
        <p:spPr>
          <a:xfrm>
            <a:off x="10069200" y="8161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Calibri"/>
              </a:rPr>
              <a:t>6. lek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E50F-A5AD-45C4-A14F-A4B674C36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ktangel 10"/>
          <p:cNvSpPr/>
          <p:nvPr/>
        </p:nvSpPr>
        <p:spPr>
          <a:xfrm>
            <a:off x="0" y="12600"/>
            <a:ext cx="12192120" cy="636840"/>
          </a:xfrm>
          <a:prstGeom prst="rect">
            <a:avLst/>
          </a:prstGeom>
          <a:solidFill>
            <a:srgbClr val="e2f0d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ktangel 6"/>
          <p:cNvSpPr/>
          <p:nvPr/>
        </p:nvSpPr>
        <p:spPr>
          <a:xfrm>
            <a:off x="885960" y="187200"/>
            <a:ext cx="29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2060"/>
                </a:solidFill>
                <a:latin typeface="Calibri"/>
              </a:rPr>
              <a:t>Bjergprædiken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ge forbindelse 7"/>
          <p:cNvSpPr/>
          <p:nvPr/>
        </p:nvSpPr>
        <p:spPr>
          <a:xfrm>
            <a:off x="-7920" y="633240"/>
            <a:ext cx="12192120" cy="0"/>
          </a:xfrm>
          <a:prstGeom prst="line">
            <a:avLst/>
          </a:prstGeom>
          <a:ln w="3816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ktangel 8"/>
          <p:cNvSpPr/>
          <p:nvPr/>
        </p:nvSpPr>
        <p:spPr>
          <a:xfrm>
            <a:off x="0" y="6721560"/>
            <a:ext cx="12192120" cy="195120"/>
          </a:xfrm>
          <a:prstGeom prst="rect">
            <a:avLst/>
          </a:prstGeom>
          <a:solidFill>
            <a:srgbClr val="e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ktangel 9"/>
          <p:cNvSpPr/>
          <p:nvPr/>
        </p:nvSpPr>
        <p:spPr>
          <a:xfrm>
            <a:off x="8447040" y="233280"/>
            <a:ext cx="290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2060"/>
                </a:solidFill>
                <a:latin typeface="Calibri"/>
              </a:rPr>
              <a:t>Morten Vartdal  |  FKF  |  20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ge forbindelse 11"/>
          <p:cNvSpPr/>
          <p:nvPr/>
        </p:nvSpPr>
        <p:spPr>
          <a:xfrm>
            <a:off x="907920" y="4332240"/>
            <a:ext cx="10329840" cy="0"/>
          </a:xfrm>
          <a:prstGeom prst="line">
            <a:avLst/>
          </a:prstGeom>
          <a:ln w="316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2903-4D12-46DC-A3A0-661A76044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60520" y="24512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6500" spc="-1" strike="noStrike">
                <a:solidFill>
                  <a:srgbClr val="002060"/>
                </a:solidFill>
                <a:latin typeface="Calibri"/>
              </a:rPr>
              <a:t>Bjergprædikenen</a:t>
            </a:r>
            <a:br>
              <a:rPr sz="6500"/>
            </a:br>
            <a:endParaRPr b="0" lang="en-US" sz="6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Spørgsmål til artiklen om De 10 Bud 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153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Hvad kendetegner de fem Mosebøg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Hvem bestemte over jøderne i henholdsvis Egypten og ørken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Hvor mange love gav Gud det jødiske folk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Hvilke love er de mest kendt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Hvilke forskelle ser I på henholdsvis den lutherske/katolske og jødiske inddeling af de 10 bu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Spørgsmål til artiklen om jødernes forståelse</a:t>
            </a:r>
            <a:br>
              <a:rPr sz="3600"/>
            </a:br>
            <a:r>
              <a:rPr b="1" lang="da-DK" sz="36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af De 10 Bud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Rektangel 4"/>
          <p:cNvSpPr/>
          <p:nvPr/>
        </p:nvSpPr>
        <p:spPr>
          <a:xfrm>
            <a:off x="838080" y="2136600"/>
            <a:ext cx="10180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Forklar hvad henholdsvis jøde og jødedom 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Hvad er vigtigt at kende til for at forstå lidt af jødedomm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Hvor mange love er der i alt i Mosebøgerne ifølge jødisk tradi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Hvorfor mener religiøse jøder, at Moses fik både en skriftlig og mundtlig lo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Hvordan vil du forklare, hvad jødernes forståelse af De 10 Bud 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Hvorfor tror du, at det er vigtigt at kende til jødernes forståelse af den skriftlige lov, når du skal arbejde med Bjergprædiken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Hvad tror I, Jesus har sagt om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Rektangel 6"/>
          <p:cNvSpPr/>
          <p:nvPr/>
        </p:nvSpPr>
        <p:spPr>
          <a:xfrm>
            <a:off x="7473960" y="267696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Det Gamle Testam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ktangel 7"/>
          <p:cNvSpPr/>
          <p:nvPr/>
        </p:nvSpPr>
        <p:spPr>
          <a:xfrm>
            <a:off x="4920120" y="234684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Vre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ktangel 8"/>
          <p:cNvSpPr/>
          <p:nvPr/>
        </p:nvSpPr>
        <p:spPr>
          <a:xfrm>
            <a:off x="2251440" y="5409000"/>
            <a:ext cx="25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Ægteskab og skilsmis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ktangel 9"/>
          <p:cNvSpPr/>
          <p:nvPr/>
        </p:nvSpPr>
        <p:spPr>
          <a:xfrm>
            <a:off x="3026160" y="2899080"/>
            <a:ext cx="121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At svæ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ktangel 10"/>
          <p:cNvSpPr/>
          <p:nvPr/>
        </p:nvSpPr>
        <p:spPr>
          <a:xfrm>
            <a:off x="2770920" y="4239000"/>
            <a:ext cx="9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Fjen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ktangel 11"/>
          <p:cNvSpPr/>
          <p:nvPr/>
        </p:nvSpPr>
        <p:spPr>
          <a:xfrm>
            <a:off x="895320" y="221508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t give pe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ktangel 12"/>
          <p:cNvSpPr/>
          <p:nvPr/>
        </p:nvSpPr>
        <p:spPr>
          <a:xfrm>
            <a:off x="6814080" y="451548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Bø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ktangel 13"/>
          <p:cNvSpPr/>
          <p:nvPr/>
        </p:nvSpPr>
        <p:spPr>
          <a:xfrm>
            <a:off x="4554360" y="482796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Fa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ktangel 14"/>
          <p:cNvSpPr/>
          <p:nvPr/>
        </p:nvSpPr>
        <p:spPr>
          <a:xfrm>
            <a:off x="992160" y="59878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Fokus i liv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ktangel 15"/>
          <p:cNvSpPr/>
          <p:nvPr/>
        </p:nvSpPr>
        <p:spPr>
          <a:xfrm>
            <a:off x="9071640" y="17848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Bekymrin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ktangel 16"/>
          <p:cNvSpPr/>
          <p:nvPr/>
        </p:nvSpPr>
        <p:spPr>
          <a:xfrm>
            <a:off x="860400" y="36597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At dømme and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ktangel 17"/>
          <p:cNvSpPr/>
          <p:nvPr/>
        </p:nvSpPr>
        <p:spPr>
          <a:xfrm>
            <a:off x="6822360" y="5620320"/>
            <a:ext cx="45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Hvordan andre mennesker skal behan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ktangel 18"/>
          <p:cNvSpPr/>
          <p:nvPr/>
        </p:nvSpPr>
        <p:spPr>
          <a:xfrm>
            <a:off x="4830480" y="3408840"/>
            <a:ext cx="21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Falske undervis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ktangel 19"/>
          <p:cNvSpPr/>
          <p:nvPr/>
        </p:nvSpPr>
        <p:spPr>
          <a:xfrm>
            <a:off x="8821080" y="4415400"/>
            <a:ext cx="24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ortabelse og evigt l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I har hørt… Men jeg siger jer…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7720" y="2422080"/>
            <a:ext cx="6704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 har hørt, at der er sagt til de gamle: (om vrede). Men jeg siger jer:…” </a:t>
            </a:r>
            <a:r>
              <a:rPr b="0" i="1" lang="da-DK" sz="2000" spc="-1" strike="noStrike">
                <a:solidFill>
                  <a:srgbClr val="000000"/>
                </a:solidFill>
                <a:latin typeface="Calibri"/>
              </a:rPr>
              <a:t>– Matt 5,21-2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 har hørt, at der er sagt: (om ægteskabsbrud). Men jeg siger jer:…” </a:t>
            </a:r>
            <a:r>
              <a:rPr b="0" i="1" lang="da-DK" sz="2000" spc="-1" strike="noStrike">
                <a:solidFill>
                  <a:srgbClr val="000000"/>
                </a:solidFill>
                <a:latin typeface="Calibri"/>
              </a:rPr>
              <a:t>– Matt 5,27-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r er sagt: (om skilsmisse). Men jeg siger jer:…” </a:t>
            </a:r>
            <a:r>
              <a:rPr b="0" i="1" lang="da-DK" sz="2000" spc="-1" strike="noStrike">
                <a:solidFill>
                  <a:srgbClr val="000000"/>
                </a:solidFill>
                <a:latin typeface="Calibri"/>
              </a:rPr>
              <a:t>– Matt 5,31-3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 har også hørt, at der er sagt til de gamle: (om at sværge). Men jeg siger jer:…” </a:t>
            </a:r>
            <a:r>
              <a:rPr b="0" i="1" lang="da-DK" sz="2000" spc="-1" strike="noStrike">
                <a:solidFill>
                  <a:srgbClr val="000000"/>
                </a:solidFill>
                <a:latin typeface="Calibri"/>
              </a:rPr>
              <a:t>– Matt 5,33-3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 har hørt, at der er sagt: (om gengældelse). Men jeg siger jer:…”</a:t>
            </a:r>
            <a:r>
              <a:rPr b="0" i="1" lang="da-DK" sz="2000" spc="-1" strike="noStrike">
                <a:solidFill>
                  <a:srgbClr val="000000"/>
                </a:solidFill>
                <a:latin typeface="Calibri"/>
              </a:rPr>
              <a:t> – Matt 5,38-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 har hørt, at der er sagt: (om fjendekærlighed). Men jeg siger jer:…” </a:t>
            </a:r>
            <a:r>
              <a:rPr b="0" i="1" lang="da-DK" sz="2000" spc="-1" strike="noStrike">
                <a:solidFill>
                  <a:srgbClr val="000000"/>
                </a:solidFill>
                <a:latin typeface="Calibri"/>
              </a:rPr>
              <a:t>– Matt 5,43-4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13:39:52Z</dcterms:created>
  <dc:creator>Laila Nygaard</dc:creator>
  <dc:description/>
  <dc:language>en-US</dc:language>
  <cp:lastModifiedBy>Laila Nygaard</cp:lastModifiedBy>
  <dcterms:modified xsi:type="dcterms:W3CDTF">2018-10-26T11:40:20Z</dcterms:modified>
  <cp:revision>2</cp:revision>
  <dc:subject/>
  <dc:title> Bjergprædikenen </dc:title>
</cp:coreProperties>
</file>